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C91C-FE7B-44DE-A9C6-7BAA31561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96B1-1090-45D6-8E9C-5411AA711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75DD-24EE-416C-8D0E-BD4EE75C5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71C7-EC9F-4F6F-8BD2-D257B0A48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B604-37E8-41E7-A330-F0EAFD087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4D90-D46D-42D1-9A12-D9063ADAF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A11E-7B71-4CC7-9F1F-A69EAB46A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A4C8-7626-47E4-8D4E-B0990C8ED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ADB3-8867-4B42-959D-A6B7CA3CC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9C91-92CA-469B-9A12-2177B3FC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4A16-3ADD-49B3-B523-07F5121E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7765-BA55-4B2C-84B8-04BD556B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BC8FE-4F26-4F69-AD1D-923A6B6E0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0" y="0"/>
          <a:ext cx="9252000" cy="692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52000" cy="69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2050920" y="1052640"/>
            <a:ext cx="475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92360" y="26028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Future of V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907920"/>
            <a:ext cx="7056360" cy="65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TS is an A to N, which is generally limited to local or regional ar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TS interacts with ships and principally provides TOS, NAS and IS.  It may also fulfil other functions as described in A 857(2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the introduction of A 857(20), the monitoring of, and interaction with, vessels has become a global activity (LRIT and AI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urity and efficiency considerations now necessitate pre-arrival information well before arrival in a VTS a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re organisations at local, regional and national level need to interact with vessels world wi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0" y="0"/>
          <a:ext cx="9252000" cy="692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52000" cy="69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050920" y="1052640"/>
            <a:ext cx="475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92360" y="189000"/>
            <a:ext cx="62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Global Interaction with Vessel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1413000"/>
            <a:ext cx="853272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tly, no international organisation is co-ordinating or providing guidance on this global interaction with vesse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is thus a role to be filled in the context of vessel traffic, and at a level higher than traditional V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might be provided by: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essel Traffic Management” (VT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TM is as yet undefined formally.  One possible definition is: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“VTM is a collection of global activities supported by   information services which, improve the safety, security, efficiency and environmental protection of vessels and cargo.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0" y="0"/>
          <a:ext cx="9252000" cy="692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52000" cy="69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2050920" y="1052640"/>
            <a:ext cx="475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92360" y="47628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V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1268280"/>
            <a:ext cx="84978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TM would therefore comprise VTS as a central component, but also other activities, such as LRIT , Law Enforcement and S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ctivities are supported by the exchange of information, to be known as VT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32000" y="1557360"/>
            <a:ext cx="71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T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-108000" y="-63360"/>
          <a:ext cx="9252000" cy="692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8000" y="-63360"/>
                    <a:ext cx="9252000" cy="69213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2843280" y="333360"/>
            <a:ext cx="3600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VT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(Safety, security, efficiency, environmental prote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619280" y="2997360"/>
            <a:ext cx="5473800" cy="7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141720"/>
            <a:ext cx="0" cy="28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32000" y="3068640"/>
            <a:ext cx="0" cy="28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27640" y="306864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093080" y="299736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3429000"/>
            <a:ext cx="129708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0920" y="3429000"/>
            <a:ext cx="129708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R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3500280"/>
            <a:ext cx="129672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77080" y="3429000"/>
            <a:ext cx="144144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427640" y="2060280"/>
            <a:ext cx="0" cy="7189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2060640"/>
            <a:ext cx="9144000" cy="4464000"/>
          </a:xfrm>
          <a:prstGeom prst="ellipse">
            <a:avLst/>
          </a:prstGeom>
          <a:noFill/>
          <a:ln w="57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6948360" y="4005360"/>
            <a:ext cx="503280" cy="792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834920" y="4076280"/>
            <a:ext cx="144360" cy="792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6021360"/>
            <a:ext cx="133200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67640" y="6021360"/>
            <a:ext cx="118908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5867280" y="4076280"/>
            <a:ext cx="433440" cy="792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2627280" y="4076280"/>
            <a:ext cx="289080" cy="792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276720" y="4076280"/>
            <a:ext cx="1150920" cy="792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64000" y="3429000"/>
            <a:ext cx="129708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to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3068640"/>
            <a:ext cx="0" cy="28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48000" y="5445000"/>
            <a:ext cx="2448000" cy="642600"/>
          </a:xfrm>
          <a:prstGeom prst="rect">
            <a:avLst/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Arial"/>
              </a:rPr>
              <a:t>VTM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00720" y="4149720"/>
            <a:ext cx="936360" cy="7192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1052640"/>
            <a:ext cx="144000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1125360"/>
            <a:ext cx="144000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1258560" y="1844280"/>
            <a:ext cx="360360" cy="64764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1844280"/>
            <a:ext cx="432000" cy="57636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394920" y="5516640"/>
            <a:ext cx="289080" cy="36036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317080" y="5661000"/>
            <a:ext cx="215640" cy="21600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0" y="0"/>
          <a:ext cx="9252000" cy="692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52000" cy="69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2050920" y="1052640"/>
            <a:ext cx="475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92360" y="47628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V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1268280"/>
            <a:ext cx="849780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Arial"/>
              </a:rPr>
              <a:t>VTM would therefore comprise VTS as a central component, but also other activities, such as LRIT , Law Enforcement and S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Arial"/>
              </a:rPr>
              <a:t>These activities are supported by the exchange of information, to be known as VT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ALA should structure its committees to provide guidance, where appropriate, on VTM issu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this end, it is suggested that  the VTS Committee be re-named the VTM Committee and adjusts its work programme according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32000" y="1557360"/>
            <a:ext cx="71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0" y="0"/>
          <a:ext cx="9252000" cy="692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52000" cy="69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2050920" y="1052640"/>
            <a:ext cx="475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92360" y="47628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VTM and E-Nav Committ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87280" y="1268280"/>
            <a:ext cx="705672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role of the VTM committee would include the specification of VTM functional needs and the provision of VTM guidance and recommendations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E-Nav (and other committees such ANM) would provide technical guidance on how those functional needs are best delive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se functional needs could include shore-to-shore and  shore-to-ship information exchange.  It could also influence future ship-to-ship data exchange requir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T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0" y="0"/>
          <a:ext cx="9252000" cy="692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52000" cy="69213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2843280" y="333360"/>
            <a:ext cx="3600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VT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(Safety, security, efficiency, environmental prote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1619280" y="2997360"/>
            <a:ext cx="5473800" cy="7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19280" y="3141720"/>
            <a:ext cx="0" cy="28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32000" y="3068640"/>
            <a:ext cx="0" cy="28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27640" y="306864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93080" y="299736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3429000"/>
            <a:ext cx="129708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050920" y="3429000"/>
            <a:ext cx="129708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R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80000" y="3500280"/>
            <a:ext cx="129672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77080" y="3429000"/>
            <a:ext cx="144144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427640" y="2060280"/>
            <a:ext cx="0" cy="7189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060640"/>
            <a:ext cx="9144000" cy="4464000"/>
          </a:xfrm>
          <a:prstGeom prst="ellipse">
            <a:avLst/>
          </a:prstGeom>
          <a:noFill/>
          <a:ln w="57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948360" y="4005360"/>
            <a:ext cx="503280" cy="792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1834920" y="4076280"/>
            <a:ext cx="144360" cy="792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6021360"/>
            <a:ext cx="133200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67640" y="6021360"/>
            <a:ext cx="118908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5867280" y="4076280"/>
            <a:ext cx="433440" cy="792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2627280" y="4076280"/>
            <a:ext cx="289080" cy="792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276720" y="4076280"/>
            <a:ext cx="1150920" cy="792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64000" y="3429000"/>
            <a:ext cx="129708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to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12000" y="3068640"/>
            <a:ext cx="0" cy="28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48000" y="5661000"/>
            <a:ext cx="2448000" cy="642600"/>
          </a:xfrm>
          <a:prstGeom prst="rect">
            <a:avLst/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Arial"/>
              </a:rPr>
              <a:t>VTM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00720" y="4149720"/>
            <a:ext cx="936360" cy="7192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16000" y="4149720"/>
            <a:ext cx="6553080" cy="1512720"/>
          </a:xfrm>
          <a:prstGeom prst="rect">
            <a:avLst/>
          </a:prstGeom>
          <a:solidFill>
            <a:srgbClr val="ff33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58920" y="4149720"/>
            <a:ext cx="669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- Nav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= harmonisation of the means for collecting, distributing and presenting information related to maritime safety, security, efficiency and environmental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308720" y="1052640"/>
            <a:ext cx="144000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9640" y="1125360"/>
            <a:ext cx="144000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7451640" y="1844280"/>
            <a:ext cx="433440" cy="57636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1476360" y="1916280"/>
            <a:ext cx="287280" cy="50472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317080" y="5589720"/>
            <a:ext cx="215640" cy="21564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468360" y="558972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539640" y="5589720"/>
            <a:ext cx="216000" cy="28728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2T12:38:29Z</dcterms:created>
  <dc:creator>BruceR</dc:creator>
  <dc:description/>
  <dc:language>en-US</dc:language>
  <cp:lastModifiedBy>BruceR</cp:lastModifiedBy>
  <dcterms:modified xsi:type="dcterms:W3CDTF">2006-09-14T12:19:06Z</dcterms:modified>
  <cp:revision>11</cp:revision>
  <dc:subject/>
  <dc:title>Slide 1</dc:title>
</cp:coreProperties>
</file>